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69AF-6016-4717-A9C1-98F46E44E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1112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74C6-4355-41C4-81E2-C4F8DD324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9A87-CFF7-4164-9FFE-4DFC357D3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1112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41112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41112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A5DA-A9B1-4641-A134-5662B2A15A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0D24-3A40-4E68-A718-7152D8C563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EA59-7AD0-486B-952F-7995133F5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855C-8328-450B-A4DD-FF3450A1A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42E2-4710-4D77-98A6-C286B66EE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560" y="22824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AC26-5E5C-42CD-A72B-5CAA7F924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BF85-423B-47E5-8507-50F0B7F8D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3402-2345-43F7-BA6F-C06F41782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1112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02CE-605D-4109-9092-730744164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1880" y="6248520"/>
            <a:ext cx="60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304F-0976-4E9D-A288-8A26DF3984C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ysgol-rhyngrwyd.wikispaces.com/Unit+4+Changing+Earth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Arial"/>
              </a:rPr>
              <a:t>Process of scenery change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vers in particu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2251-FCB5-4204-86F8-566559F6A9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3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River Transport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2234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iver carries or transports eroded materials such as mud, sand, boulders and dissolved materials on its journe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materials are known as </a:t>
            </a: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its lo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oad is carried along by four process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trac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salta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suspension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solution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" descr="River Transport."/>
          <p:cNvPicPr/>
          <p:nvPr/>
        </p:nvPicPr>
        <p:blipFill>
          <a:blip r:embed="rId4"/>
          <a:stretch/>
        </p:blipFill>
        <p:spPr>
          <a:xfrm>
            <a:off x="7093080" y="189000"/>
            <a:ext cx="1647720" cy="11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2728-08F2-43A4-B65E-DB0CD2BA78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River Transport 1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where boulders or stones are rolled along the stream bed by the force of the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" descr="Traction."/>
          <p:cNvPicPr/>
          <p:nvPr/>
        </p:nvPicPr>
        <p:blipFill>
          <a:blip r:embed="rId2"/>
          <a:stretch/>
        </p:blipFill>
        <p:spPr>
          <a:xfrm>
            <a:off x="1795320" y="2852640"/>
            <a:ext cx="5513400" cy="21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060D-0115-4AE5-BF4C-BDF849CEF3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River Transport 2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38224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alta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when small particles  such as tiny pebbles are carried along in the riv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mall particles bounce along and leapfrog over each 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" descr="Suspension."/>
          <p:cNvPicPr/>
          <p:nvPr/>
        </p:nvPicPr>
        <p:blipFill>
          <a:blip r:embed="rId3"/>
          <a:stretch/>
        </p:blipFill>
        <p:spPr>
          <a:xfrm>
            <a:off x="1573200" y="4340160"/>
            <a:ext cx="5446800" cy="211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913E-DA69-4B32-8024-EEFA7F1806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River Transport 3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38224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spen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hen very fine particles (suspension) such as clay, silt and fine sand are carried along in the riv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mall particles are held up by the water as they float because they are very, very small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763640" y="4176720"/>
            <a:ext cx="5878440" cy="22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7E39-6203-4011-84E5-971EB7CB24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An example of suspension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40000" y="2077920"/>
            <a:ext cx="5040360" cy="305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D4EC-9DDC-42D8-B482-3D76319081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River Transport 4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ansportation in solu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hen dissolved materials containing minerals like calcium and sodium are carried in the water and are invisible to the naked ey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picture here because you cannot see them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6A36-5918-46D9-BF73-E2E73FD316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Now go to the animation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ysgol-rhyngrwyd.wikispaces.com/Unit+4+Changing+Eart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also 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bbc.co.uk/schools/gcsebitesize/geography/riverswater/riverprocessesrev2.sht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F1ED-ABAE-4B88-B4D9-3D5AEB8E81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3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River Deposition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341360"/>
            <a:ext cx="8367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iver drop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s lo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hen the speed or volume of the river decreas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oad, which it carries, is deposite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heavier material is deposited first and the finer material carried fur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vers reduce their speed when they enter flat land, enters a lake or the sea or reach an arid are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olume can be reduced during a dry season or when the river passes over more porous landscapes  e.g. sand or limest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" descr="River Deposition - icon"/>
          <p:cNvPicPr/>
          <p:nvPr/>
        </p:nvPicPr>
        <p:blipFill>
          <a:blip r:embed="rId6"/>
          <a:stretch/>
        </p:blipFill>
        <p:spPr>
          <a:xfrm>
            <a:off x="7664400" y="260280"/>
            <a:ext cx="1054080" cy="10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D9A3-3F78-4682-A0BA-E9FB72DB89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Do the River processes test quiz bite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bbc.co.uk/apps/ifl/schools/gcsebitesize/geography/quizengine?quiz=riverprocessestest&amp;templateStyle=geograph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3D0C-9C65-43EE-9620-D1E80B308B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Processes at work 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the source to mouth of a river three processes are taking pl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87280" y="2924280"/>
            <a:ext cx="6121440" cy="1441440"/>
            <a:chOff x="1187280" y="2924280"/>
            <a:chExt cx="6121440" cy="1441440"/>
          </a:xfrm>
        </p:grpSpPr>
        <p:pic>
          <p:nvPicPr>
            <p:cNvPr id="44" name="" descr="River Erosion."/>
            <p:cNvPicPr/>
            <p:nvPr/>
          </p:nvPicPr>
          <p:blipFill>
            <a:blip r:embed="rId2"/>
            <a:stretch/>
          </p:blipFill>
          <p:spPr>
            <a:xfrm>
              <a:off x="1187280" y="2924280"/>
              <a:ext cx="1328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River Transport."/>
            <p:cNvPicPr/>
            <p:nvPr/>
          </p:nvPicPr>
          <p:blipFill>
            <a:blip r:embed="rId3"/>
            <a:stretch/>
          </p:blipFill>
          <p:spPr>
            <a:xfrm>
              <a:off x="3419640" y="3127320"/>
              <a:ext cx="1652400" cy="11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River Deposition."/>
            <p:cNvPicPr/>
            <p:nvPr/>
          </p:nvPicPr>
          <p:blipFill>
            <a:blip r:embed="rId4"/>
            <a:stretch/>
          </p:blipFill>
          <p:spPr>
            <a:xfrm>
              <a:off x="6043680" y="2995560"/>
              <a:ext cx="1265040" cy="129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684360" y="4508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ver erosion     River Transport   River De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D048-4EAA-4787-A220-E95B4910D9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What is erosion?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96640"/>
            <a:ext cx="838224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osion is the way in which rock is worn away by something else, for example by wind or water or ice – these 3 are called </a:t>
            </a: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agents of ero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without them no erosion would take pla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not like weathering where the rock is broken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Can you remember the 3 types of weathering?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4 different ways water erodes the river a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8610-2B38-41F4-BEA4-B49059C3CC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3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River Erosion 1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67920"/>
            <a:ext cx="822348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tri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collision of rock fragments in the water against one anoth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ock particles are broken into smaller pieces and become smoother the longer the process continu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" descr="River Erosion"/>
          <p:cNvPicPr/>
          <p:nvPr/>
        </p:nvPicPr>
        <p:blipFill>
          <a:blip r:embed="rId3"/>
          <a:stretch/>
        </p:blipFill>
        <p:spPr>
          <a:xfrm>
            <a:off x="7683480" y="260280"/>
            <a:ext cx="1063800" cy="115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Attrition"/>
          <p:cNvPicPr/>
          <p:nvPr/>
        </p:nvPicPr>
        <p:blipFill>
          <a:blip r:embed="rId4"/>
          <a:stretch/>
        </p:blipFill>
        <p:spPr>
          <a:xfrm>
            <a:off x="2050920" y="2995560"/>
            <a:ext cx="4753080" cy="18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63B4-F101-4666-85E8-4004353A37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The results of attrition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5373360"/>
            <a:ext cx="838224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e how these rocks are becoming smoother at the ed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916360" y="1413000"/>
            <a:ext cx="2811240" cy="34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63D9-3F9B-4FF0-BBFA-5CCA32C02F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3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River Erosion 2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67920"/>
            <a:ext cx="82234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ras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 Corras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) is the grinding of rock fragments carried by the river against the bed and banks of the riv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ember – when you scrape your knee if you fall over – this an abra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action causes the channel to widen and deepen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grinding is most powerful in flood time when large fragments of rock are carried along in the river be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" descr="River Erosion"/>
          <p:cNvPicPr/>
          <p:nvPr/>
        </p:nvPicPr>
        <p:blipFill>
          <a:blip r:embed="rId4"/>
          <a:stretch/>
        </p:blipFill>
        <p:spPr>
          <a:xfrm>
            <a:off x="7683480" y="260280"/>
            <a:ext cx="1063800" cy="1152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Abrasion"/>
          <p:cNvPicPr/>
          <p:nvPr/>
        </p:nvPicPr>
        <p:blipFill>
          <a:blip r:embed="rId5"/>
          <a:stretch/>
        </p:blipFill>
        <p:spPr>
          <a:xfrm>
            <a:off x="2195640" y="4527720"/>
            <a:ext cx="4968720" cy="207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609E-3894-4725-8A36-B714C057A7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3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River Erosion 3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2234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orrosio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 the process by which river water reacts chemically with soluble minerals in the rocks and dissolves them.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(although this is often called solution – confusing as solution is also a word used in transportation – so in general I don’t – but the animation you will see does!!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often say things like water pipes corrode – the chemicals in the water seem to eat them away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" descr="River Erosion"/>
          <p:cNvPicPr/>
          <p:nvPr/>
        </p:nvPicPr>
        <p:blipFill>
          <a:blip r:embed="rId3"/>
          <a:stretch/>
        </p:blipFill>
        <p:spPr>
          <a:xfrm>
            <a:off x="7683480" y="260280"/>
            <a:ext cx="1063800" cy="11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D639-E729-4ECA-ACF0-C67D685547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3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River Erosion 4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223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dditional process is also at work caused by the force of the water itself known a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ydraulic a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is rocks are dragged away from the bed and banks by the force of the running water. 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just like when you turn up a hose and point it at the ground – the soil and small stones get washed a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" descr="River Erosion"/>
          <p:cNvPicPr/>
          <p:nvPr/>
        </p:nvPicPr>
        <p:blipFill>
          <a:blip r:embed="rId4"/>
          <a:stretch/>
        </p:blipFill>
        <p:spPr>
          <a:xfrm>
            <a:off x="7683480" y="260280"/>
            <a:ext cx="1063800" cy="11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EEEB-5782-4EB7-A8D5-BD7918D977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Checkout this animation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ysgol-rhyngrwyd.wikispaces.com/Unit+4+Changing+Ear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also 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bbc.co.uk/schools/gcsebitesize/geography/riverswater/riverprocessesrev1.shtm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98DB-9336-4E5B-A511-C6763DD051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2T11:40:09Z</dcterms:created>
  <dc:creator>PC USER</dc:creator>
  <dc:description/>
  <dc:language>en-US</dc:language>
  <cp:lastModifiedBy>Lindy</cp:lastModifiedBy>
  <dcterms:modified xsi:type="dcterms:W3CDTF">2009-01-25T15:52:31Z</dcterms:modified>
  <cp:revision>8</cp:revision>
  <dc:subject/>
  <dc:title>River words</dc:title>
</cp:coreProperties>
</file>